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20A-C565-4BD2-B74E-3F903A5C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E47-99DE-4E52-BC5F-07610216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15D-EA84-46F5-8B58-F6455960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FAB-AD5F-4911-B980-A2FA006D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97B-C9F5-4228-87B0-8FF8622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AFB-0F4B-4DA9-9D66-84FEABDD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D19-AC49-4E07-89F0-428D9F09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853-4C79-440D-BAB5-848B5AD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D5C-D485-4890-968C-DEAEA194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F0C-A38E-44E0-91C2-216BB407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DC5-0CFC-4EA3-A850-A1909BA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DF0-7147-484D-B4C8-14879DD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DD5F-64F4-44A7-ACFB-28F290758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114800"/>
            <a:ext cx="7010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Shanelle Robles, Patrick Negrete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Bailey William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19810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net Definition</a:t>
            </a:r>
            <a:endParaRPr b="0" lang="en-US" sz="2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304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What do we think is a pla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71629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The planet mu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Have a moon or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Gravity of 0.25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Diameter of about 10,000 and ab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Mass of 50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A rotational period of about a day or more.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al Eccentrici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0.5 or abo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685800"/>
          <a:ext cx="8686800" cy="59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68680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 txBox="1"/>
          <p:nvPr/>
        </p:nvSpPr>
        <p:spPr>
          <a:xfrm>
            <a:off x="2286000" y="2286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meter of a Plane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abfc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mber of Moo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666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2438280" y="30492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6600cc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1523880" y="457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bital Eccentricity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bfc6"/>
            </a:gs>
            <a:gs pos="50000">
              <a:srgbClr val="ff3399"/>
            </a:gs>
            <a:gs pos="100000">
              <a:srgbClr val="3abf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0"/>
          <a:ext cx="8915400" cy="40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154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457200" y="99072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ss Compared to Earth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00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362320"/>
          <a:ext cx="82296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1447920" y="53352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Rotational Peri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28600"/>
          <a:ext cx="8229240" cy="585108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a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ercu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up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atu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eptu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Dwarf 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lu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um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Ven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on-plan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7:16:29Z</dcterms:created>
  <dc:creator>mchamorro</dc:creator>
  <dc:description/>
  <dc:language>en-US</dc:language>
  <cp:lastModifiedBy>Phil</cp:lastModifiedBy>
  <dcterms:modified xsi:type="dcterms:W3CDTF">2011-02-17T04:54:14Z</dcterms:modified>
  <cp:revision>11</cp:revision>
  <dc:subject/>
  <dc:title>Slide 1</dc:title>
</cp:coreProperties>
</file>